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D36-A701-43FC-9CA2-31BFE055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06E-98FE-4394-8A45-D11776B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9EB-8552-4034-932C-BDF9C849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9BC-DB31-4BC6-A6B1-8D4C1346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EE5-BCBA-461A-BB3E-332DF0D9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D48-81B4-4404-AEEB-D2217F4A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EBD-8762-4EBD-B31B-992BEDF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B00-E479-4EA7-8AEA-D937E381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DB0-7DBB-4D54-B388-A42DA8E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372-7D41-4835-8780-81BDB1F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280-B429-49B5-8E0D-A080AC8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E7E-0807-40A6-980B-F3C22A1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BCF7-2DA7-48B5-938C-DDEF95FA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2438280"/>
            <a:ext cx="4143240" cy="441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uilding a Pedigre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Please add the group names and then resave this document as </a:t>
            </a:r>
            <a:r>
              <a:rPr b="1" i="1" lang="en-US" sz="3200" spc="-1" strike="noStrike">
                <a:solidFill>
                  <a:srgbClr val="000000"/>
                </a:solidFill>
                <a:latin typeface="Lucida Fax"/>
              </a:rPr>
              <a:t>(group name) pedigree pp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04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B-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 will demonstrate an understanding of the molecular basis of heredity. B-4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nherited traits by using the principles of Mendelian genetics (including segregation, independent assortment, and domi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4876920"/>
            <a:ext cx="19051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Ethnicities are shown when avail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85800" y="1447920"/>
            <a:ext cx="8458200" cy="4056120"/>
            <a:chOff x="685800" y="1447920"/>
            <a:chExt cx="8458200" cy="4056120"/>
          </a:xfrm>
        </p:grpSpPr>
        <p:sp>
          <p:nvSpPr>
            <p:cNvPr id="536" name=""/>
            <p:cNvSpPr/>
            <p:nvPr/>
          </p:nvSpPr>
          <p:spPr>
            <a:xfrm>
              <a:off x="13716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2200" y="19051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85800" y="1523880"/>
              <a:ext cx="8305920" cy="3980160"/>
              <a:chOff x="685800" y="1523880"/>
              <a:chExt cx="8305920" cy="3980160"/>
            </a:xfrm>
          </p:grpSpPr>
          <p:sp>
            <p:nvSpPr>
              <p:cNvPr id="539" name=""/>
              <p:cNvSpPr/>
              <p:nvPr/>
            </p:nvSpPr>
            <p:spPr>
              <a:xfrm rot="10800000">
                <a:off x="3657240" y="3276720"/>
                <a:ext cx="304920" cy="457200"/>
              </a:xfrm>
              <a:prstGeom prst="flowChartDelay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685800" y="1523880"/>
                <a:ext cx="8305920" cy="3980160"/>
                <a:chOff x="685800" y="1523880"/>
                <a:chExt cx="8305920" cy="3980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2971800" y="4419720"/>
                  <a:ext cx="60984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10040" y="1981080"/>
                  <a:ext cx="228600" cy="60984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895840" y="3048120"/>
                  <a:ext cx="22860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685800" y="1523880"/>
                  <a:ext cx="8305920" cy="3980160"/>
                  <a:chOff x="685800" y="1523880"/>
                  <a:chExt cx="8305920" cy="3980160"/>
                </a:xfrm>
              </p:grpSpPr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914400" y="1752480"/>
                    <a:ext cx="8001000" cy="3581280"/>
                    <a:chOff x="914400" y="1752480"/>
                    <a:chExt cx="8001000" cy="358128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914400" y="1981080"/>
                      <a:ext cx="4419360" cy="3200400"/>
                      <a:chOff x="914400" y="1981080"/>
                      <a:chExt cx="4419360" cy="320040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276360" y="42670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914400" y="1981080"/>
                        <a:ext cx="4419360" cy="3200400"/>
                        <a:chOff x="914400" y="1981080"/>
                        <a:chExt cx="4419360" cy="32004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3276360" y="419112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50" name=""/>
                        <p:cNvGrpSpPr/>
                        <p:nvPr/>
                      </p:nvGrpSpPr>
                      <p:grpSpPr>
                        <a:xfrm>
                          <a:off x="914400" y="1981080"/>
                          <a:ext cx="4419360" cy="3200400"/>
                          <a:chOff x="914400" y="1981080"/>
                          <a:chExt cx="4419360" cy="3200400"/>
                        </a:xfrm>
                      </p:grpSpPr>
                      <p:sp>
                        <p:nvSpPr>
                          <p:cNvPr id="551" name=""/>
                          <p:cNvSpPr/>
                          <p:nvPr/>
                        </p:nvSpPr>
                        <p:spPr>
                          <a:xfrm>
                            <a:off x="1752480" y="3429000"/>
                            <a:ext cx="0" cy="304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"/>
                          <p:cNvSpPr/>
                          <p:nvPr/>
                        </p:nvSpPr>
                        <p:spPr>
                          <a:xfrm>
                            <a:off x="1600200" y="342900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3" name=""/>
                          <p:cNvSpPr/>
                          <p:nvPr/>
                        </p:nvSpPr>
                        <p:spPr>
                          <a:xfrm>
                            <a:off x="4267080" y="3429000"/>
                            <a:ext cx="30492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54" name=""/>
                          <p:cNvGrpSpPr/>
                          <p:nvPr/>
                        </p:nvGrpSpPr>
                        <p:grpSpPr>
                          <a:xfrm>
                            <a:off x="914400" y="1981080"/>
                            <a:ext cx="4419360" cy="3200400"/>
                            <a:chOff x="914400" y="1981080"/>
                            <a:chExt cx="4419360" cy="3200400"/>
                          </a:xfrm>
                        </p:grpSpPr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4724280" y="457200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mes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56" name=""/>
                            <p:cNvGrpSpPr/>
                            <p:nvPr/>
                          </p:nvGrpSpPr>
                          <p:grpSpPr>
                            <a:xfrm>
                              <a:off x="914400" y="1981080"/>
                              <a:ext cx="4343400" cy="3200400"/>
                              <a:chOff x="914400" y="1981080"/>
                              <a:chExt cx="4343400" cy="3200400"/>
                            </a:xfrm>
                          </p:grpSpPr>
                          <p:sp>
                            <p:nvSpPr>
                              <p:cNvPr id="557" name=""/>
                              <p:cNvSpPr/>
                              <p:nvPr/>
                            </p:nvSpPr>
                            <p:spPr>
                              <a:xfrm>
                                <a:off x="3581280" y="4267080"/>
                                <a:ext cx="152388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"/>
                              <p:cNvSpPr/>
                              <p:nvPr/>
                            </p:nvSpPr>
                            <p:spPr>
                              <a:xfrm>
                                <a:off x="3581280" y="3505320"/>
                                <a:ext cx="0" cy="7617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"/>
                              <p:cNvSpPr/>
                              <p:nvPr/>
                            </p:nvSpPr>
                            <p:spPr>
                              <a:xfrm>
                                <a:off x="2971800" y="449568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oh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"/>
                              <p:cNvSpPr/>
                              <p:nvPr/>
                            </p:nvSpPr>
                            <p:spPr>
                              <a:xfrm>
                                <a:off x="1447560" y="388620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,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r.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"/>
                              <p:cNvSpPr/>
                              <p:nvPr/>
                            </p:nvSpPr>
                            <p:spPr>
                              <a:xfrm>
                                <a:off x="2057400" y="457200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Sarah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Best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"/>
                              <p:cNvSpPr/>
                              <p:nvPr/>
                            </p:nvSpPr>
                            <p:spPr>
                              <a:xfrm>
                                <a:off x="2666880" y="48769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63" name=""/>
                              <p:cNvGrpSpPr/>
                              <p:nvPr/>
                            </p:nvGrpSpPr>
                            <p:grpSpPr>
                              <a:xfrm>
                                <a:off x="914400" y="1981080"/>
                                <a:ext cx="4343400" cy="1828800"/>
                                <a:chOff x="914400" y="1981080"/>
                                <a:chExt cx="4343400" cy="1828800"/>
                              </a:xfrm>
                            </p:grpSpPr>
                            <p:grpSp>
                              <p:nvGrpSpPr>
                                <p:cNvPr id="564" name=""/>
                                <p:cNvGrpSpPr/>
                                <p:nvPr/>
                              </p:nvGrpSpPr>
                              <p:grpSpPr>
                                <a:xfrm>
                                  <a:off x="914400" y="1981080"/>
                                  <a:ext cx="4343400" cy="1828800"/>
                                  <a:chOff x="91440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565" name=""/>
                                  <p:cNvSpPr/>
                                  <p:nvPr/>
                                </p:nvSpPr>
                                <p:spPr>
                                  <a:xfrm>
                                    <a:off x="3429000" y="3505320"/>
                                    <a:ext cx="304560" cy="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5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914400" y="1981080"/>
                                    <a:ext cx="4343400" cy="1828800"/>
                                    <a:chOff x="914400" y="1981080"/>
                                    <a:chExt cx="4343400" cy="1828800"/>
                                  </a:xfrm>
                                </p:grpSpPr>
                                <p:sp>
                                  <p:nvSpPr>
                                    <p:cNvPr id="5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wen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64832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Jason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omes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520" y="3124080"/>
                                      <a:ext cx="60948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Max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91440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dam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76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ndrea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57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209680" y="1981080"/>
                                      <a:ext cx="1600200" cy="1294560"/>
                                      <a:chOff x="2209680" y="1981080"/>
                                      <a:chExt cx="1600200" cy="1294560"/>
                                    </a:xfrm>
                                  </p:grpSpPr>
                                  <p:sp>
                                    <p:nvSpPr>
                                      <p:cNvPr id="57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9680" y="1981080"/>
                                        <a:ext cx="609840" cy="60948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0000ff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Kenneth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7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400" y="1981080"/>
                                        <a:ext cx="609480" cy="609480"/>
                                      </a:xfrm>
                                      <a:prstGeom prst="ellipse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ff99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Edith M. 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575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362320" y="2742840"/>
                                        <a:ext cx="1370880" cy="532800"/>
                                        <a:chOff x="2362320" y="2742840"/>
                                        <a:chExt cx="1370880" cy="532800"/>
                                      </a:xfrm>
                                    </p:grpSpPr>
                                    <p:sp>
                                      <p:nvSpPr>
                                        <p:cNvPr id="576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304776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77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36232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578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048120" y="2209680"/>
                                        <a:ext cx="0" cy="53316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79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895480" y="2209680"/>
                                        <a:ext cx="304920" cy="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580" name=""/>
                                <p:cNvSpPr/>
                                <p:nvPr/>
                              </p:nvSpPr>
                              <p:spPr>
                                <a:xfrm flipH="1">
                                  <a:off x="4724280" y="3276720"/>
                                  <a:ext cx="380880" cy="4572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5105160" y="4267080"/>
                          <a:ext cx="0" cy="228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4724280" y="1752480"/>
                      <a:ext cx="4191120" cy="3581280"/>
                      <a:chOff x="4724280" y="1752480"/>
                      <a:chExt cx="4191120" cy="3581280"/>
                    </a:xfrm>
                  </p:grpSpPr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5562720" y="4952880"/>
                        <a:ext cx="0" cy="3808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79246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cto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65530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obert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7543800" y="33526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e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562720" y="327636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Philip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7242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8305920" y="33526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ath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Green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5715000" y="4571640"/>
                        <a:ext cx="609480" cy="60984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ertrud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</a:t>
                        </a: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6629400" y="327636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organ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May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5410080" y="48765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8229600" y="3581280"/>
                        <a:ext cx="0" cy="9144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601992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6400800" y="3581280"/>
                        <a:ext cx="0" cy="6094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678168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601992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640080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6172200" y="3581280"/>
                        <a:ext cx="4572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00" name=""/>
                      <p:cNvGrpSpPr/>
                      <p:nvPr/>
                    </p:nvGrpSpPr>
                    <p:grpSpPr>
                      <a:xfrm>
                        <a:off x="6934320" y="1752480"/>
                        <a:ext cx="1676160" cy="1523880"/>
                        <a:chOff x="6934320" y="1752480"/>
                        <a:chExt cx="1676160" cy="1523880"/>
                      </a:xfrm>
                    </p:grpSpPr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8001000" y="175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usan Z.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7010280" y="17524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ria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7696080" y="205704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6934320" y="289548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7772400" y="2057040"/>
                          <a:ext cx="0" cy="83844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8610480" y="2819160"/>
                          <a:ext cx="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6934320" y="289548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7238880" y="28954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8001000" y="35812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685800" y="1523880"/>
                    <a:ext cx="8305920" cy="3980160"/>
                    <a:chOff x="685800" y="1523880"/>
                    <a:chExt cx="8305920" cy="398016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600200" y="2971800"/>
                      <a:ext cx="990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/1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2971800" y="5181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7/1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6019920" y="2971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822960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/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685800" y="3886200"/>
                      <a:ext cx="10670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0/1927-4/8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9051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1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739152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2133720" y="2666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1/1900 - 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2819520" y="38098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1219320" y="449568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8/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925040" y="30322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6934320" y="2438280"/>
                      <a:ext cx="68580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/1917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2057400" y="37339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/1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7339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193697-2/5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6553440" y="525780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2/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2819520" y="18129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543800" y="1523880"/>
                      <a:ext cx="1219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/1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925040" y="24382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/1917- 2/5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5257800" y="44038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7/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3200400" y="2666880"/>
                      <a:ext cx="8384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/1910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46483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571500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4/1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2438640" y="44197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114800" y="28954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7/1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46483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/1920-5/25/19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7925040" y="5257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5410440" y="396252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629400" y="38703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39" name=""/>
            <p:cNvSpPr/>
            <p:nvPr/>
          </p:nvSpPr>
          <p:spPr>
            <a:xfrm>
              <a:off x="38862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5920" y="1447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5257800" y="545148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Fax"/>
              </a:rPr>
              <a:t>Generations are identified and individuals can be found with a number system. </a:t>
            </a:r>
            <a:endParaRPr b="0" lang="en-US" sz="21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85800" y="1447920"/>
            <a:ext cx="8458200" cy="4056120"/>
            <a:chOff x="685800" y="1447920"/>
            <a:chExt cx="8458200" cy="4056120"/>
          </a:xfrm>
        </p:grpSpPr>
        <p:sp>
          <p:nvSpPr>
            <p:cNvPr id="645" name=""/>
            <p:cNvSpPr/>
            <p:nvPr/>
          </p:nvSpPr>
          <p:spPr>
            <a:xfrm>
              <a:off x="13716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2200" y="19051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85800" y="1523880"/>
              <a:ext cx="8305920" cy="3980160"/>
              <a:chOff x="685800" y="1523880"/>
              <a:chExt cx="8305920" cy="3980160"/>
            </a:xfrm>
          </p:grpSpPr>
          <p:sp>
            <p:nvSpPr>
              <p:cNvPr id="648" name=""/>
              <p:cNvSpPr/>
              <p:nvPr/>
            </p:nvSpPr>
            <p:spPr>
              <a:xfrm rot="10800000">
                <a:off x="3657240" y="3276720"/>
                <a:ext cx="304920" cy="457200"/>
              </a:xfrm>
              <a:prstGeom prst="flowChartDelay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685800" y="1523880"/>
                <a:ext cx="8305920" cy="3980160"/>
                <a:chOff x="685800" y="1523880"/>
                <a:chExt cx="8305920" cy="3980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971800" y="4419720"/>
                  <a:ext cx="60984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210040" y="1981080"/>
                  <a:ext cx="228600" cy="60984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895840" y="3048120"/>
                  <a:ext cx="22860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"/>
                <p:cNvGrpSpPr/>
                <p:nvPr/>
              </p:nvGrpSpPr>
              <p:grpSpPr>
                <a:xfrm>
                  <a:off x="685800" y="1523880"/>
                  <a:ext cx="8305920" cy="3980160"/>
                  <a:chOff x="685800" y="1523880"/>
                  <a:chExt cx="8305920" cy="398016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914400" y="1752480"/>
                    <a:ext cx="8001000" cy="3581280"/>
                    <a:chOff x="914400" y="1752480"/>
                    <a:chExt cx="8001000" cy="3581280"/>
                  </a:xfrm>
                </p:grpSpPr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914400" y="1981080"/>
                      <a:ext cx="4419360" cy="3200400"/>
                      <a:chOff x="914400" y="1981080"/>
                      <a:chExt cx="4419360" cy="320040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3276360" y="42670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57" name=""/>
                      <p:cNvGrpSpPr/>
                      <p:nvPr/>
                    </p:nvGrpSpPr>
                    <p:grpSpPr>
                      <a:xfrm>
                        <a:off x="914400" y="1981080"/>
                        <a:ext cx="4419360" cy="3200400"/>
                        <a:chOff x="914400" y="1981080"/>
                        <a:chExt cx="4419360" cy="3200400"/>
                      </a:xfrm>
                    </p:grpSpPr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3276360" y="419112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59" name=""/>
                        <p:cNvGrpSpPr/>
                        <p:nvPr/>
                      </p:nvGrpSpPr>
                      <p:grpSpPr>
                        <a:xfrm>
                          <a:off x="914400" y="1981080"/>
                          <a:ext cx="4419360" cy="3200400"/>
                          <a:chOff x="914400" y="1981080"/>
                          <a:chExt cx="4419360" cy="3200400"/>
                        </a:xfrm>
                      </p:grpSpPr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>
                            <a:off x="1752480" y="3429000"/>
                            <a:ext cx="0" cy="304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>
                            <a:off x="1600200" y="342900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>
                            <a:off x="4267080" y="3429000"/>
                            <a:ext cx="30492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63" name=""/>
                          <p:cNvGrpSpPr/>
                          <p:nvPr/>
                        </p:nvGrpSpPr>
                        <p:grpSpPr>
                          <a:xfrm>
                            <a:off x="914400" y="1981080"/>
                            <a:ext cx="4419360" cy="3200400"/>
                            <a:chOff x="914400" y="1981080"/>
                            <a:chExt cx="4419360" cy="3200400"/>
                          </a:xfrm>
                        </p:grpSpPr>
                        <p:sp>
                          <p:nvSpPr>
                            <p:cNvPr id="664" name=""/>
                            <p:cNvSpPr/>
                            <p:nvPr/>
                          </p:nvSpPr>
                          <p:spPr>
                            <a:xfrm>
                              <a:off x="4724280" y="457200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mes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65" name=""/>
                            <p:cNvGrpSpPr/>
                            <p:nvPr/>
                          </p:nvGrpSpPr>
                          <p:grpSpPr>
                            <a:xfrm>
                              <a:off x="914400" y="1981080"/>
                              <a:ext cx="4343400" cy="3200400"/>
                              <a:chOff x="914400" y="1981080"/>
                              <a:chExt cx="4343400" cy="3200400"/>
                            </a:xfrm>
                          </p:grpSpPr>
                          <p:sp>
                            <p:nvSpPr>
                              <p:cNvPr id="666" name=""/>
                              <p:cNvSpPr/>
                              <p:nvPr/>
                            </p:nvSpPr>
                            <p:spPr>
                              <a:xfrm>
                                <a:off x="3581280" y="4267080"/>
                                <a:ext cx="152388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3581280" y="3505320"/>
                                <a:ext cx="0" cy="7617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2971800" y="449568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oh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"/>
                              <p:cNvSpPr/>
                              <p:nvPr/>
                            </p:nvSpPr>
                            <p:spPr>
                              <a:xfrm>
                                <a:off x="1447560" y="388620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,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r.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2057400" y="457200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Sarah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Best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2666880" y="48769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72" name=""/>
                              <p:cNvGrpSpPr/>
                              <p:nvPr/>
                            </p:nvGrpSpPr>
                            <p:grpSpPr>
                              <a:xfrm>
                                <a:off x="914400" y="1981080"/>
                                <a:ext cx="4343400" cy="1828800"/>
                                <a:chOff x="914400" y="1981080"/>
                                <a:chExt cx="4343400" cy="1828800"/>
                              </a:xfrm>
                            </p:grpSpPr>
                            <p:grpSp>
                              <p:nvGrpSpPr>
                                <p:cNvPr id="673" name=""/>
                                <p:cNvGrpSpPr/>
                                <p:nvPr/>
                              </p:nvGrpSpPr>
                              <p:grpSpPr>
                                <a:xfrm>
                                  <a:off x="914400" y="1981080"/>
                                  <a:ext cx="4343400" cy="1828800"/>
                                  <a:chOff x="91440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674" name=""/>
                                  <p:cNvSpPr/>
                                  <p:nvPr/>
                                </p:nvSpPr>
                                <p:spPr>
                                  <a:xfrm>
                                    <a:off x="3429000" y="3505320"/>
                                    <a:ext cx="304560" cy="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914400" y="1981080"/>
                                    <a:ext cx="4343400" cy="1828800"/>
                                    <a:chOff x="914400" y="1981080"/>
                                    <a:chExt cx="4343400" cy="1828800"/>
                                  </a:xfrm>
                                </p:grpSpPr>
                                <p:sp>
                                  <p:nvSpPr>
                                    <p:cNvPr id="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wen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64832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Jason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omes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520" y="3124080"/>
                                      <a:ext cx="60948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Max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91440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dam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76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ndrea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68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209680" y="1981080"/>
                                      <a:ext cx="1600200" cy="1294560"/>
                                      <a:chOff x="2209680" y="1981080"/>
                                      <a:chExt cx="1600200" cy="1294560"/>
                                    </a:xfrm>
                                  </p:grpSpPr>
                                  <p:sp>
                                    <p:nvSpPr>
                                      <p:cNvPr id="682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9680" y="1981080"/>
                                        <a:ext cx="609840" cy="60948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0000ff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Kenneth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8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400" y="1981080"/>
                                        <a:ext cx="609480" cy="609480"/>
                                      </a:xfrm>
                                      <a:prstGeom prst="ellipse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ff99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Edith M. 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684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362320" y="2742840"/>
                                        <a:ext cx="1370880" cy="532800"/>
                                        <a:chOff x="2362320" y="2742840"/>
                                        <a:chExt cx="1370880" cy="532800"/>
                                      </a:xfrm>
                                    </p:grpSpPr>
                                    <p:sp>
                                      <p:nvSpPr>
                                        <p:cNvPr id="68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304776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686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36232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687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048120" y="2209680"/>
                                        <a:ext cx="0" cy="53316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88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895480" y="2209680"/>
                                        <a:ext cx="304920" cy="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689" name=""/>
                                <p:cNvSpPr/>
                                <p:nvPr/>
                              </p:nvSpPr>
                              <p:spPr>
                                <a:xfrm flipH="1">
                                  <a:off x="4724280" y="3276720"/>
                                  <a:ext cx="380880" cy="4572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>
                          <a:off x="5105160" y="4267080"/>
                          <a:ext cx="0" cy="228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24280" y="1752480"/>
                      <a:ext cx="4191120" cy="3581280"/>
                      <a:chOff x="4724280" y="1752480"/>
                      <a:chExt cx="4191120" cy="358128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5562720" y="4952880"/>
                        <a:ext cx="0" cy="3808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79246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cto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65530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obert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7543800" y="33526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e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5562720" y="327636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Philip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47242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8305920" y="33526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ath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Green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5715000" y="4571640"/>
                        <a:ext cx="609480" cy="60984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ertrud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</a:t>
                        </a: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6629400" y="327636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organ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May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5410080" y="48765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8229600" y="3581280"/>
                        <a:ext cx="0" cy="9144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601992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6400800" y="3581280"/>
                        <a:ext cx="0" cy="6094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678168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601992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640080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6172200" y="3581280"/>
                        <a:ext cx="4572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9" name=""/>
                      <p:cNvGrpSpPr/>
                      <p:nvPr/>
                    </p:nvGrpSpPr>
                    <p:grpSpPr>
                      <a:xfrm>
                        <a:off x="6934320" y="1752480"/>
                        <a:ext cx="1676160" cy="1523880"/>
                        <a:chOff x="6934320" y="1752480"/>
                        <a:chExt cx="1676160" cy="1523880"/>
                      </a:xfrm>
                    </p:grpSpPr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8001000" y="175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usan Z.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>
                          <a:off x="7010280" y="17524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ria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7696080" y="205704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6934320" y="289548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7772400" y="2057040"/>
                          <a:ext cx="0" cy="83844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8610480" y="2819160"/>
                          <a:ext cx="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6934320" y="289548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7238880" y="28954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8001000" y="35812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85800" y="1523880"/>
                    <a:ext cx="8305920" cy="3980160"/>
                    <a:chOff x="685800" y="1523880"/>
                    <a:chExt cx="8305920" cy="398016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600200" y="2971800"/>
                      <a:ext cx="990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/1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2971800" y="5181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7/1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6019920" y="2971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822960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/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685800" y="3886200"/>
                      <a:ext cx="10670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0/1927-4/8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9051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1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739152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2133720" y="2666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1/1900 - 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2819520" y="38098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219320" y="449568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8/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7925040" y="30322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6934320" y="2438280"/>
                      <a:ext cx="68580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/1917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2057400" y="37339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/1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37339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193697-2/5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6553440" y="525780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2/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2819520" y="18129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7543800" y="1523880"/>
                      <a:ext cx="1219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/1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7925040" y="24382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/1917- 2/5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5257800" y="44038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7/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3200400" y="2666880"/>
                      <a:ext cx="8384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/1910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46483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571500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4/1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2438640" y="44197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4114800" y="28954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7/1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6483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/1920-5/25/19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7925040" y="5257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5410440" y="396252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6629400" y="38703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48" name=""/>
            <p:cNvSpPr/>
            <p:nvPr/>
          </p:nvSpPr>
          <p:spPr>
            <a:xfrm>
              <a:off x="38862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305920" y="1447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0" y="586728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  (click &amp; dr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08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860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81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7913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491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193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2514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288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98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58128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477120" y="2438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4197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148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610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43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57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6491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20120" y="48909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388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5257800" y="5410080"/>
            <a:ext cx="663480" cy="6447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4674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839080" y="35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After tests are run, information gathered is used to determine the possible genotypes of the offspring with a Punnett square</a:t>
            </a: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869" name=""/>
          <p:cNvSpPr/>
          <p:nvPr/>
        </p:nvSpPr>
        <p:spPr>
          <a:xfrm>
            <a:off x="4114800" y="2971800"/>
            <a:ext cx="358128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"/>
          <p:cNvCxnSpPr>
            <a:stCxn id="869" idx="0"/>
            <a:endCxn id="869" idx="2"/>
          </p:cNvCxnSpPr>
          <p:nvPr/>
        </p:nvCxnSpPr>
        <p:spPr>
          <a:xfrm>
            <a:off x="5905080" y="2971440"/>
            <a:ext cx="108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1" name=""/>
          <p:cNvCxnSpPr>
            <a:stCxn id="869" idx="1"/>
            <a:endCxn id="869" idx="3"/>
          </p:cNvCxnSpPr>
          <p:nvPr/>
        </p:nvCxnSpPr>
        <p:spPr>
          <a:xfrm>
            <a:off x="4114800" y="4228920"/>
            <a:ext cx="358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0" y="4191120"/>
            <a:ext cx="266688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 let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34290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343400" y="472428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24224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36417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77120" y="24224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486108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59277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63086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21178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a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534520" y="3048120"/>
            <a:ext cx="380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008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956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2280" y="59436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52280" y="63849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59436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219320" y="63086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219320" y="54864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34290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72200" y="464832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5791320"/>
            <a:ext cx="6019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atio of Genotypes: 1TT: 2 Tt: 1 tt: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dds of having the disorder: 25% t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The Pedigree starts with the parents of the unborn child.  (Open the embedded file to begin the project).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352680"/>
            <a:ext cx="160020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3352680"/>
            <a:ext cx="198144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 Mays 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0" y="5715000"/>
          <a:ext cx="914400" cy="71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der is appropriately represented in the pedigree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33920"/>
            <a:ext cx="1523880" cy="121896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3733920"/>
            <a:ext cx="1752480" cy="121896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s 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999120" y="4433760"/>
            <a:ext cx="1868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29000" y="243828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715000" y="2362320"/>
            <a:ext cx="114300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2438280"/>
            <a:ext cx="228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Fax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Relationships are correctly shown in the pedigree as the mother and father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505320"/>
            <a:ext cx="914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419112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819520"/>
            <a:ext cx="68580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543440" y="5257800"/>
            <a:ext cx="76212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971800"/>
            <a:ext cx="175248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971800"/>
            <a:ext cx="152388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Fax"/>
              </a:rPr>
              <a:t>Additional family members on the maternal side are added. Add a blue box for James but do not add his name.  (Ask for help grouping objects when you are done.)</a:t>
            </a:r>
            <a:endParaRPr b="0" lang="en-US" sz="24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495680" y="2590920"/>
            <a:ext cx="4191120" cy="3581280"/>
            <a:chOff x="4495680" y="2590920"/>
            <a:chExt cx="4191120" cy="3581280"/>
          </a:xfrm>
        </p:grpSpPr>
        <p:sp>
          <p:nvSpPr>
            <p:cNvPr id="81" name=""/>
            <p:cNvSpPr/>
            <p:nvPr/>
          </p:nvSpPr>
          <p:spPr>
            <a:xfrm>
              <a:off x="5334120" y="5791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960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e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ober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4191120"/>
              <a:ext cx="609480" cy="60948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Jo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4114800"/>
              <a:ext cx="609480" cy="60948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Phili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77320" y="4191120"/>
              <a:ext cx="609480" cy="60948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eat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. Gre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410080"/>
              <a:ext cx="609480" cy="60984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Gertru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Ful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0800" y="4114800"/>
              <a:ext cx="609480" cy="60948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or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. M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81480" y="57150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01000" y="441972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91320" y="5029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44197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3080" y="5029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91320" y="50292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50292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4419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705720" y="2590920"/>
              <a:ext cx="1676160" cy="1523880"/>
              <a:chOff x="6705720" y="2590920"/>
              <a:chExt cx="1676160" cy="1523880"/>
            </a:xfrm>
          </p:grpSpPr>
          <p:sp>
            <p:nvSpPr>
              <p:cNvPr id="99" name=""/>
              <p:cNvSpPr/>
              <p:nvPr/>
            </p:nvSpPr>
            <p:spPr>
              <a:xfrm>
                <a:off x="7772400" y="259092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Susa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n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1680" y="2590920"/>
                <a:ext cx="60984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Bria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An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67480" y="28954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05720" y="373392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43800" y="28954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81880" y="3657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05720" y="37339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10280" y="3733920"/>
                <a:ext cx="137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772400" y="44197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66880" y="6324480"/>
            <a:ext cx="1370880" cy="532800"/>
            <a:chOff x="2666880" y="6324480"/>
            <a:chExt cx="1370880" cy="532800"/>
          </a:xfrm>
        </p:grpSpPr>
        <p:sp>
          <p:nvSpPr>
            <p:cNvPr id="110" name=""/>
            <p:cNvSpPr/>
            <p:nvPr/>
          </p:nvSpPr>
          <p:spPr>
            <a:xfrm>
              <a:off x="3352320" y="632448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66880" y="632448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90920" y="6172200"/>
            <a:ext cx="1370880" cy="532800"/>
            <a:chOff x="2590920" y="6172200"/>
            <a:chExt cx="1370880" cy="532800"/>
          </a:xfrm>
        </p:grpSpPr>
        <p:sp>
          <p:nvSpPr>
            <p:cNvPr id="113" name=""/>
            <p:cNvSpPr/>
            <p:nvPr/>
          </p:nvSpPr>
          <p:spPr>
            <a:xfrm>
              <a:off x="327636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9092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3657600" y="548640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62136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Additional family members on the paternal side are added. (Extend James Fuller far to the left and do not add Gertrude).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6172200"/>
            <a:ext cx="1370880" cy="532800"/>
            <a:chOff x="2895480" y="6172200"/>
            <a:chExt cx="1370880" cy="532800"/>
          </a:xfrm>
        </p:grpSpPr>
        <p:sp>
          <p:nvSpPr>
            <p:cNvPr id="128" name=""/>
            <p:cNvSpPr/>
            <p:nvPr/>
          </p:nvSpPr>
          <p:spPr>
            <a:xfrm>
              <a:off x="358092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89548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33920" y="2514600"/>
            <a:ext cx="4419360" cy="3200400"/>
            <a:chOff x="3733920" y="2514600"/>
            <a:chExt cx="4419360" cy="3200400"/>
          </a:xfrm>
        </p:grpSpPr>
        <p:sp>
          <p:nvSpPr>
            <p:cNvPr id="131" name=""/>
            <p:cNvSpPr/>
            <p:nvPr/>
          </p:nvSpPr>
          <p:spPr>
            <a:xfrm>
              <a:off x="6095880" y="48006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733920" y="2514600"/>
              <a:ext cx="4419360" cy="3200400"/>
              <a:chOff x="3733920" y="2514600"/>
              <a:chExt cx="4419360" cy="3200400"/>
            </a:xfrm>
          </p:grpSpPr>
          <p:sp>
            <p:nvSpPr>
              <p:cNvPr id="133" name=""/>
              <p:cNvSpPr/>
              <p:nvPr/>
            </p:nvSpPr>
            <p:spPr>
              <a:xfrm>
                <a:off x="6095880" y="472464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3733920" y="2514600"/>
                <a:ext cx="4419360" cy="3200400"/>
                <a:chOff x="3733920" y="2514600"/>
                <a:chExt cx="4419360" cy="3200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72000" y="396252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19720" y="396252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086600" y="396252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733920" y="2514600"/>
                  <a:ext cx="4419360" cy="3200400"/>
                  <a:chOff x="3733920" y="2514600"/>
                  <a:chExt cx="4419360" cy="32004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543800" y="5105520"/>
                    <a:ext cx="609480" cy="609480"/>
                  </a:xfrm>
                  <a:prstGeom prst="rect">
                    <a:avLst/>
                  </a:prstGeom>
                  <a:noFill/>
                  <a:ln w="127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James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Fulle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3733920" y="2514600"/>
                    <a:ext cx="4343400" cy="3200400"/>
                    <a:chOff x="3733920" y="2514600"/>
                    <a:chExt cx="4343400" cy="320040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400800" y="4800600"/>
                      <a:ext cx="1523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400800" y="4038840"/>
                      <a:ext cx="0" cy="7617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5791320" y="5029200"/>
                      <a:ext cx="60948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h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267080" y="4419720"/>
                      <a:ext cx="60984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ustler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76920" y="510552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ra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486400" y="541044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3733920" y="2514600"/>
                      <a:ext cx="4343400" cy="1828800"/>
                      <a:chOff x="3733920" y="2514600"/>
                      <a:chExt cx="4343400" cy="1828800"/>
                    </a:xfrm>
                  </p:grpSpPr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3733920" y="2514600"/>
                        <a:ext cx="4343400" cy="1828800"/>
                        <a:chOff x="3733920" y="2514600"/>
                        <a:chExt cx="4343400" cy="182880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248520" y="403884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" name=""/>
                        <p:cNvGrpSpPr/>
                        <p:nvPr/>
                      </p:nvGrpSpPr>
                      <p:grpSpPr>
                        <a:xfrm>
                          <a:off x="3733920" y="2514600"/>
                          <a:ext cx="4343400" cy="1828800"/>
                          <a:chOff x="3733920" y="2514600"/>
                          <a:chExt cx="4343400" cy="1828800"/>
                        </a:xfrm>
                      </p:grpSpPr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>
                            <a:off x="4648320" y="3733560"/>
                            <a:ext cx="609480" cy="609840"/>
                          </a:xfrm>
                          <a:prstGeom prst="ellipse">
                            <a:avLst/>
                          </a:prstGeom>
                          <a:noFill/>
                          <a:ln w="127080">
                            <a:solidFill>
                              <a:srgbClr val="ff99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Gwen G. 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ustler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>
                            <a:off x="7467840" y="3733560"/>
                            <a:ext cx="609480" cy="60984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Jason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omes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5639040" y="3657600"/>
                            <a:ext cx="609480" cy="60948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Max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733920" y="3733560"/>
                            <a:ext cx="609480" cy="60984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Adam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ustler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6477120" y="3733560"/>
                            <a:ext cx="609480" cy="609840"/>
                          </a:xfrm>
                          <a:prstGeom prst="ellipse">
                            <a:avLst/>
                          </a:prstGeom>
                          <a:noFill/>
                          <a:ln w="127080">
                            <a:solidFill>
                              <a:srgbClr val="ff99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Andrea G. 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5029200" y="2514600"/>
                            <a:ext cx="1600200" cy="1294560"/>
                            <a:chOff x="5029200" y="2514600"/>
                            <a:chExt cx="1600200" cy="129456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5029200" y="2514600"/>
                              <a:ext cx="60984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Kenneth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range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6019920" y="2514600"/>
                              <a:ext cx="609480" cy="60948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Edith M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range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9" name=""/>
                            <p:cNvGrpSpPr/>
                            <p:nvPr/>
                          </p:nvGrpSpPr>
                          <p:grpSpPr>
                            <a:xfrm>
                              <a:off x="5181840" y="3276360"/>
                              <a:ext cx="1370880" cy="532800"/>
                              <a:chOff x="5181840" y="3276360"/>
                              <a:chExt cx="1370880" cy="532800"/>
                            </a:xfrm>
                          </p:grpSpPr>
                          <p:sp>
                            <p:nvSpPr>
                              <p:cNvPr id="160" name=""/>
                              <p:cNvSpPr/>
                              <p:nvPr/>
                            </p:nvSpPr>
                            <p:spPr>
                              <a:xfrm>
                                <a:off x="5867280" y="3276360"/>
                                <a:ext cx="685440" cy="5328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" name=""/>
                              <p:cNvSpPr/>
                              <p:nvPr/>
                            </p:nvSpPr>
                            <p:spPr>
                              <a:xfrm flipH="1">
                                <a:off x="5181840" y="3276360"/>
                                <a:ext cx="685440" cy="5328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2" name=""/>
                            <p:cNvSpPr/>
                            <p:nvPr/>
                          </p:nvSpPr>
                          <p:spPr>
                            <a:xfrm>
                              <a:off x="5867640" y="2743200"/>
                              <a:ext cx="0" cy="53316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" name=""/>
                            <p:cNvSpPr/>
                            <p:nvPr/>
                          </p:nvSpPr>
                          <p:spPr>
                            <a:xfrm>
                              <a:off x="5715000" y="2743200"/>
                              <a:ext cx="30492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4" name=""/>
                      <p:cNvSpPr/>
                      <p:nvPr/>
                    </p:nvSpPr>
                    <p:spPr>
                      <a:xfrm flipH="1">
                        <a:off x="7543800" y="3810240"/>
                        <a:ext cx="380880" cy="457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65" name=""/>
              <p:cNvSpPr/>
              <p:nvPr/>
            </p:nvSpPr>
            <p:spPr>
              <a:xfrm>
                <a:off x="7924680" y="48006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Entire pedigree is now pieced together. (copy maternal and paternal, paste, and group here.)</a:t>
            </a: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590920"/>
            <a:ext cx="8001000" cy="3581280"/>
            <a:chOff x="685800" y="2590920"/>
            <a:chExt cx="8001000" cy="3581280"/>
          </a:xfrm>
        </p:grpSpPr>
        <p:grpSp>
          <p:nvGrpSpPr>
            <p:cNvPr id="170" name=""/>
            <p:cNvGrpSpPr/>
            <p:nvPr/>
          </p:nvGrpSpPr>
          <p:grpSpPr>
            <a:xfrm>
              <a:off x="685800" y="2819520"/>
              <a:ext cx="4419360" cy="3200400"/>
              <a:chOff x="685800" y="2819520"/>
              <a:chExt cx="4419360" cy="32004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7760" y="5105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685800" y="2819520"/>
                <a:ext cx="4419360" cy="3200400"/>
                <a:chOff x="685800" y="2819520"/>
                <a:chExt cx="4419360" cy="32004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47760" y="5029560"/>
                  <a:ext cx="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5800" y="2819520"/>
                  <a:ext cx="4419360" cy="3200400"/>
                  <a:chOff x="685800" y="2819520"/>
                  <a:chExt cx="4419360" cy="32004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1523880" y="4267440"/>
                    <a:ext cx="0" cy="304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371600" y="4267440"/>
                    <a:ext cx="304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038480" y="4267440"/>
                    <a:ext cx="30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85800" y="2819520"/>
                    <a:ext cx="4419360" cy="3200400"/>
                    <a:chOff x="685800" y="2819520"/>
                    <a:chExt cx="4419360" cy="32004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495680" y="541044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85800" y="2819520"/>
                      <a:ext cx="4343400" cy="3200400"/>
                      <a:chOff x="685800" y="2819520"/>
                      <a:chExt cx="4343400" cy="32004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3352680" y="5105520"/>
                        <a:ext cx="1523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3352680" y="4343760"/>
                        <a:ext cx="0" cy="7617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2743200" y="5334120"/>
                        <a:ext cx="60948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hn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1218960" y="4724640"/>
                        <a:ext cx="60984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dam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ustler,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r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828800" y="541044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Sarah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est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438280" y="57153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7" name=""/>
                      <p:cNvGrpSpPr/>
                      <p:nvPr/>
                    </p:nvGrpSpPr>
                    <p:grpSpPr>
                      <a:xfrm>
                        <a:off x="685800" y="2819520"/>
                        <a:ext cx="4343400" cy="1828800"/>
                        <a:chOff x="685800" y="2819520"/>
                        <a:chExt cx="4343400" cy="1828800"/>
                      </a:xfrm>
                    </p:grpSpPr>
                    <p:grpSp>
                      <p:nvGrpSpPr>
                        <p:cNvPr id="188" name=""/>
                        <p:cNvGrpSpPr/>
                        <p:nvPr/>
                      </p:nvGrpSpPr>
                      <p:grpSpPr>
                        <a:xfrm>
                          <a:off x="685800" y="2819520"/>
                          <a:ext cx="4343400" cy="1828800"/>
                          <a:chOff x="685800" y="2819520"/>
                          <a:chExt cx="4343400" cy="1828800"/>
                        </a:xfrm>
                      </p:grpSpPr>
                      <p:sp>
                        <p:nvSpPr>
                          <p:cNvPr id="189" name=""/>
                          <p:cNvSpPr/>
                          <p:nvPr/>
                        </p:nvSpPr>
                        <p:spPr>
                          <a:xfrm>
                            <a:off x="3200400" y="434376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90" name=""/>
                          <p:cNvGrpSpPr/>
                          <p:nvPr/>
                        </p:nvGrpSpPr>
                        <p:grpSpPr>
                          <a:xfrm>
                            <a:off x="685800" y="2819520"/>
                            <a:ext cx="4343400" cy="1828800"/>
                            <a:chOff x="685800" y="2819520"/>
                            <a:chExt cx="4343400" cy="1828800"/>
                          </a:xfrm>
                        </p:grpSpPr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1600200" y="4038480"/>
                              <a:ext cx="609480" cy="60984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wen G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4419720" y="40384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son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omes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2590920" y="396252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Max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>
                              <a:off x="685800" y="40384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dam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3429000" y="4038480"/>
                              <a:ext cx="609480" cy="60984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ndrea G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96" name=""/>
                            <p:cNvGrpSpPr/>
                            <p:nvPr/>
                          </p:nvGrpSpPr>
                          <p:grpSpPr>
                            <a:xfrm>
                              <a:off x="1981080" y="2819520"/>
                              <a:ext cx="1600200" cy="1294560"/>
                              <a:chOff x="1981080" y="2819520"/>
                              <a:chExt cx="1600200" cy="1294560"/>
                            </a:xfrm>
                          </p:grpSpPr>
                          <p:sp>
                            <p:nvSpPr>
                              <p:cNvPr id="197" name=""/>
                              <p:cNvSpPr/>
                              <p:nvPr/>
                            </p:nvSpPr>
                            <p:spPr>
                              <a:xfrm>
                                <a:off x="1981080" y="281952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Kenneth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range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"/>
                              <p:cNvSpPr/>
                              <p:nvPr/>
                            </p:nvSpPr>
                            <p:spPr>
                              <a:xfrm>
                                <a:off x="2971800" y="281952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Edith M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range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9" name=""/>
                              <p:cNvGrpSpPr/>
                              <p:nvPr/>
                            </p:nvGrpSpPr>
                            <p:grpSpPr>
                              <a:xfrm>
                                <a:off x="2133720" y="3581280"/>
                                <a:ext cx="1370880" cy="532800"/>
                                <a:chOff x="2133720" y="3581280"/>
                                <a:chExt cx="1370880" cy="532800"/>
                              </a:xfrm>
                            </p:grpSpPr>
                            <p:sp>
                              <p:nvSpPr>
                                <p:cNvPr id="200" name=""/>
                                <p:cNvSpPr/>
                                <p:nvPr/>
                              </p:nvSpPr>
                              <p:spPr>
                                <a:xfrm>
                                  <a:off x="2819160" y="3581280"/>
                                  <a:ext cx="685440" cy="5328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1" name=""/>
                                <p:cNvSpPr/>
                                <p:nvPr/>
                              </p:nvSpPr>
                              <p:spPr>
                                <a:xfrm flipH="1">
                                  <a:off x="2133720" y="3581280"/>
                                  <a:ext cx="685440" cy="5328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02" name=""/>
                              <p:cNvSpPr/>
                              <p:nvPr/>
                            </p:nvSpPr>
                            <p:spPr>
                              <a:xfrm>
                                <a:off x="2819520" y="3048120"/>
                                <a:ext cx="0" cy="5331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2666880" y="30481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>
                          <a:off x="4495680" y="4115160"/>
                          <a:ext cx="38088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05" name=""/>
                <p:cNvSpPr/>
                <p:nvPr/>
              </p:nvSpPr>
              <p:spPr>
                <a:xfrm>
                  <a:off x="4876560" y="51055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495680" y="2590920"/>
              <a:ext cx="4191120" cy="3581280"/>
              <a:chOff x="4495680" y="2590920"/>
              <a:chExt cx="4191120" cy="3581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334120" y="57913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960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Hector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Gre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244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ober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Ma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15200" y="4191120"/>
                <a:ext cx="60948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Jo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Gre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34120" y="4114800"/>
                <a:ext cx="60948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hilip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Ma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956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77320" y="419112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Heath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. Gre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10080"/>
                <a:ext cx="609480" cy="60984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Gertru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M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ull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00800" y="411480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Morga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. May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81480" y="571500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4419720"/>
                <a:ext cx="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91320" y="50292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441972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91320" y="5029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72200" y="5029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43600" y="44197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6705720" y="2590920"/>
                <a:ext cx="1676160" cy="1523880"/>
                <a:chOff x="6705720" y="2590920"/>
                <a:chExt cx="1676160" cy="1523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72400" y="259092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Susan Z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n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81680" y="2590920"/>
                  <a:ext cx="60984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Brian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n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480" y="289548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05720" y="373392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43800" y="2895480"/>
                  <a:ext cx="0" cy="838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381880" y="36576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05720" y="3733920"/>
                  <a:ext cx="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10280" y="37339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772400" y="44197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29200" y="62136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Birth, marriage, and death information, when applicable, is provided about each individual.</a:t>
            </a: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876920"/>
            <a:ext cx="19051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184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/19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1584360"/>
            <a:ext cx="8305920" cy="3980160"/>
            <a:chOff x="838080" y="1584360"/>
            <a:chExt cx="8305920" cy="3980160"/>
          </a:xfrm>
        </p:grpSpPr>
        <p:grpSp>
          <p:nvGrpSpPr>
            <p:cNvPr id="240" name=""/>
            <p:cNvGrpSpPr/>
            <p:nvPr/>
          </p:nvGrpSpPr>
          <p:grpSpPr>
            <a:xfrm>
              <a:off x="1066680" y="1812960"/>
              <a:ext cx="8001000" cy="3581280"/>
              <a:chOff x="1066680" y="1812960"/>
              <a:chExt cx="8001000" cy="35812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066680" y="2041560"/>
                <a:ext cx="4419360" cy="3200400"/>
                <a:chOff x="1066680" y="2041560"/>
                <a:chExt cx="4419360" cy="32004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428640" y="432756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066680" y="2041560"/>
                  <a:ext cx="4419360" cy="3200400"/>
                  <a:chOff x="1066680" y="2041560"/>
                  <a:chExt cx="4419360" cy="32004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3428640" y="4251600"/>
                    <a:ext cx="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1066680" y="2041560"/>
                    <a:ext cx="4419360" cy="3200400"/>
                    <a:chOff x="1066680" y="2041560"/>
                    <a:chExt cx="4419360" cy="320040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1904760" y="348948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1752480" y="3489480"/>
                      <a:ext cx="304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419360" y="34894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066680" y="2041560"/>
                      <a:ext cx="4419360" cy="3200400"/>
                      <a:chOff x="1066680" y="2041560"/>
                      <a:chExt cx="4419360" cy="320040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4876560" y="46324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ames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1" name=""/>
                      <p:cNvGrpSpPr/>
                      <p:nvPr/>
                    </p:nvGrpSpPr>
                    <p:grpSpPr>
                      <a:xfrm>
                        <a:off x="1066680" y="2041560"/>
                        <a:ext cx="4343400" cy="3200400"/>
                        <a:chOff x="1066680" y="2041560"/>
                        <a:chExt cx="4343400" cy="3200400"/>
                      </a:xfrm>
                    </p:grpSpPr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3733560" y="4327560"/>
                          <a:ext cx="152388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3733560" y="3565800"/>
                          <a:ext cx="0" cy="7617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3124080" y="4556160"/>
                          <a:ext cx="609480" cy="60984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Joh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Fuller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599840" y="39466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dam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Hustler,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Jr.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09680" y="463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arah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est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Fuller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819160" y="493740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8" name=""/>
                        <p:cNvGrpSpPr/>
                        <p:nvPr/>
                      </p:nvGrpSpPr>
                      <p:grpSpPr>
                        <a:xfrm>
                          <a:off x="1066680" y="2041560"/>
                          <a:ext cx="4343400" cy="1828800"/>
                          <a:chOff x="1066680" y="2041560"/>
                          <a:chExt cx="4343400" cy="1828800"/>
                        </a:xfrm>
                      </p:grpSpPr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1066680" y="2041560"/>
                            <a:ext cx="4343400" cy="1828800"/>
                            <a:chOff x="1066680" y="2041560"/>
                            <a:chExt cx="4343400" cy="182880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3581280" y="3565800"/>
                              <a:ext cx="3045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61" name=""/>
                            <p:cNvGrpSpPr/>
                            <p:nvPr/>
                          </p:nvGrpSpPr>
                          <p:grpSpPr>
                            <a:xfrm>
                              <a:off x="1066680" y="2041560"/>
                              <a:ext cx="4343400" cy="1828800"/>
                              <a:chOff x="1066680" y="2041560"/>
                              <a:chExt cx="4343400" cy="1828800"/>
                            </a:xfrm>
                          </p:grpSpPr>
                          <p:sp>
                            <p:nvSpPr>
                              <p:cNvPr id="262" name=""/>
                              <p:cNvSpPr/>
                              <p:nvPr/>
                            </p:nvSpPr>
                            <p:spPr>
                              <a:xfrm>
                                <a:off x="1981080" y="3260520"/>
                                <a:ext cx="609480" cy="60984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wen G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"/>
                              <p:cNvSpPr/>
                              <p:nvPr/>
                            </p:nvSpPr>
                            <p:spPr>
                              <a:xfrm>
                                <a:off x="4800600" y="326052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aso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omes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4" name=""/>
                              <p:cNvSpPr/>
                              <p:nvPr/>
                            </p:nvSpPr>
                            <p:spPr>
                              <a:xfrm>
                                <a:off x="2971800" y="3184560"/>
                                <a:ext cx="60948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Max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5" name=""/>
                              <p:cNvSpPr/>
                              <p:nvPr/>
                            </p:nvSpPr>
                            <p:spPr>
                              <a:xfrm>
                                <a:off x="1066680" y="326052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>
                                <a:off x="3809880" y="3260520"/>
                                <a:ext cx="609480" cy="60984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ndrea G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67" name=""/>
                              <p:cNvGrpSpPr/>
                              <p:nvPr/>
                            </p:nvGrpSpPr>
                            <p:grpSpPr>
                              <a:xfrm>
                                <a:off x="2361960" y="2041560"/>
                                <a:ext cx="1600200" cy="1294560"/>
                                <a:chOff x="2361960" y="2041560"/>
                                <a:chExt cx="1600200" cy="1294560"/>
                              </a:xfrm>
                            </p:grpSpPr>
                            <p:sp>
                              <p:nvSpPr>
                                <p:cNvPr id="268" name=""/>
                                <p:cNvSpPr/>
                                <p:nvPr/>
                              </p:nvSpPr>
                              <p:spPr>
                                <a:xfrm>
                                  <a:off x="2361960" y="2041560"/>
                                  <a:ext cx="609840" cy="6094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7080">
                                  <a:solidFill>
                                    <a:srgbClr val="0000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Kenneth </a:t>
                                  </a:r>
                                  <a:endPara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Grange</a:t>
                                  </a:r>
                                  <a:endPara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"/>
                                <p:cNvSpPr/>
                                <p:nvPr/>
                              </p:nvSpPr>
                              <p:spPr>
                                <a:xfrm>
                                  <a:off x="3352680" y="2041560"/>
                                  <a:ext cx="609480" cy="60948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27080">
                                  <a:solidFill>
                                    <a:srgbClr val="ff99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Edith M. 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Grange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70" name=""/>
                                <p:cNvGrpSpPr/>
                                <p:nvPr/>
                              </p:nvGrpSpPr>
                              <p:grpSpPr>
                                <a:xfrm>
                                  <a:off x="2514600" y="2803320"/>
                                  <a:ext cx="1370880" cy="532800"/>
                                  <a:chOff x="2514600" y="2803320"/>
                                  <a:chExt cx="1370880" cy="532800"/>
                                </a:xfrm>
                              </p:grpSpPr>
                              <p:sp>
                                <p:nvSpPr>
                                  <p:cNvPr id="271" name=""/>
                                  <p:cNvSpPr/>
                                  <p:nvPr/>
                                </p:nvSpPr>
                                <p:spPr>
                                  <a:xfrm>
                                    <a:off x="3200040" y="2803320"/>
                                    <a:ext cx="685440" cy="53280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72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2514600" y="2803320"/>
                                    <a:ext cx="685440" cy="53280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3200400" y="2270160"/>
                                  <a:ext cx="0" cy="53316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4" name=""/>
                                <p:cNvSpPr/>
                                <p:nvPr/>
                              </p:nvSpPr>
                              <p:spPr>
                                <a:xfrm>
                                  <a:off x="3047760" y="2270160"/>
                                  <a:ext cx="30492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 flipH="1">
                            <a:off x="4876560" y="3337200"/>
                            <a:ext cx="380880" cy="457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5257440" y="4327560"/>
                    <a:ext cx="0" cy="228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4876560" y="1812960"/>
                <a:ext cx="4191120" cy="3581280"/>
                <a:chOff x="4876560" y="1812960"/>
                <a:chExt cx="4191120" cy="3581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715000" y="5013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0769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Hector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7053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Rober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Ma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96080" y="3413160"/>
                  <a:ext cx="60948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Jo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15000" y="3336840"/>
                  <a:ext cx="60948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Philip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Ma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765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58200" y="341316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Heath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. Gre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67280" y="4632120"/>
                  <a:ext cx="609480" cy="60984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Gertru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M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Fu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781680" y="333684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Morgan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. May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62360" y="493704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81880" y="3641760"/>
                  <a:ext cx="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72200" y="425124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53080" y="3641760"/>
                  <a:ext cx="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33960" y="425124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172200" y="4251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553080" y="4251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24480" y="3641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086600" y="1812960"/>
                  <a:ext cx="1676160" cy="1523880"/>
                  <a:chOff x="7086600" y="1812960"/>
                  <a:chExt cx="1676160" cy="15238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8153280" y="1812960"/>
                    <a:ext cx="609480" cy="609480"/>
                  </a:xfrm>
                  <a:prstGeom prst="ellipse">
                    <a:avLst/>
                  </a:prstGeom>
                  <a:noFill/>
                  <a:ln w="12708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usan Z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nn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162560" y="1812960"/>
                    <a:ext cx="609840" cy="609480"/>
                  </a:xfrm>
                  <a:prstGeom prst="rect">
                    <a:avLst/>
                  </a:prstGeom>
                  <a:noFill/>
                  <a:ln w="127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ria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n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848360" y="2117520"/>
                    <a:ext cx="30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086600" y="2955960"/>
                    <a:ext cx="304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924680" y="2117520"/>
                    <a:ext cx="0" cy="838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762760" y="2879640"/>
                    <a:ext cx="0" cy="45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086600" y="2955960"/>
                    <a:ext cx="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91160" y="2955960"/>
                    <a:ext cx="137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8153280" y="364176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838080" y="1584360"/>
              <a:ext cx="8305920" cy="3980160"/>
              <a:chOff x="838080" y="1584360"/>
              <a:chExt cx="8305920" cy="3980160"/>
            </a:xfrm>
          </p:grpSpPr>
          <p:sp>
            <p:nvSpPr>
              <p:cNvPr id="306" name=""/>
              <p:cNvSpPr/>
              <p:nvPr/>
            </p:nvSpPr>
            <p:spPr>
              <a:xfrm>
                <a:off x="1752480" y="3032280"/>
                <a:ext cx="99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14/19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24080" y="5241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/27/196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72200" y="303228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81880" y="4098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4/19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080" y="3946680"/>
                <a:ext cx="1067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30/1927-4/8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740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4/196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43800" y="4098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3/19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0" y="2727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/31/1900 - 197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71800" y="38703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7/19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71600" y="455616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18/196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77320" y="30927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4/197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86600" y="249876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1/1917-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09680" y="379440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/193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86200" y="3870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27/193697-2/5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05720" y="531828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2/197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71800" y="18734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17/19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96080" y="1584360"/>
                <a:ext cx="121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/20/194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77320" y="24987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/15/1917- 2/5/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4643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7/199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2727360"/>
                <a:ext cx="838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/2/1910-198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3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728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24/197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90920" y="448020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5/199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67080" y="29559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7/195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600" y="3870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/6/1920-5/25/1959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77320" y="531828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2/19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62720" y="4023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15/19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930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28/19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6080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334120" y="57150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4876920"/>
            <a:ext cx="24382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6095880"/>
            <a:ext cx="259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shaded square/circle = Carrier of the  recessive allele for tay-sac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Fax"/>
              </a:rPr>
              <a:t>Medical information, bad habits, and/or personal history is given in the family pedigree. Information that can be inferred is added as well.</a:t>
            </a:r>
            <a:endParaRPr b="0" lang="en-US" sz="21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38080" y="1523880"/>
            <a:ext cx="8305920" cy="3980160"/>
            <a:chOff x="838080" y="1523880"/>
            <a:chExt cx="8305920" cy="3980160"/>
          </a:xfrm>
        </p:grpSpPr>
        <p:sp>
          <p:nvSpPr>
            <p:cNvPr id="377" name=""/>
            <p:cNvSpPr/>
            <p:nvPr/>
          </p:nvSpPr>
          <p:spPr>
            <a:xfrm rot="10800000">
              <a:off x="3809520" y="3276720"/>
              <a:ext cx="304920" cy="457200"/>
            </a:xfrm>
            <a:prstGeom prst="flowChartDelay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38080" y="1523880"/>
              <a:ext cx="8305920" cy="3980160"/>
              <a:chOff x="838080" y="1523880"/>
              <a:chExt cx="8305920" cy="3980160"/>
            </a:xfrm>
          </p:grpSpPr>
          <p:sp>
            <p:nvSpPr>
              <p:cNvPr id="379" name=""/>
              <p:cNvSpPr/>
              <p:nvPr/>
            </p:nvSpPr>
            <p:spPr>
              <a:xfrm>
                <a:off x="3124080" y="4419720"/>
                <a:ext cx="60984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62320" y="1981080"/>
                <a:ext cx="228600" cy="60984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3048120"/>
                <a:ext cx="22860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38080" y="1523880"/>
                <a:ext cx="8305920" cy="3980160"/>
                <a:chOff x="838080" y="1523880"/>
                <a:chExt cx="8305920" cy="398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1066680" y="1752480"/>
                  <a:ext cx="8001000" cy="3581280"/>
                  <a:chOff x="1066680" y="1752480"/>
                  <a:chExt cx="8001000" cy="35812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1066680" y="1981080"/>
                    <a:ext cx="4419360" cy="3200400"/>
                    <a:chOff x="1066680" y="1981080"/>
                    <a:chExt cx="4419360" cy="32004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428640" y="42670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1066680" y="1981080"/>
                      <a:ext cx="4419360" cy="3200400"/>
                      <a:chOff x="1066680" y="1981080"/>
                      <a:chExt cx="4419360" cy="320040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428640" y="4191120"/>
                        <a:ext cx="0" cy="304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88" name=""/>
                      <p:cNvGrpSpPr/>
                      <p:nvPr/>
                    </p:nvGrpSpPr>
                    <p:grpSpPr>
                      <a:xfrm>
                        <a:off x="1066680" y="1981080"/>
                        <a:ext cx="4419360" cy="3200400"/>
                        <a:chOff x="1066680" y="1981080"/>
                        <a:chExt cx="4419360" cy="3200400"/>
                      </a:xfrm>
                    </p:grpSpPr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1904760" y="3429000"/>
                          <a:ext cx="0" cy="30492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1752480" y="342900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4419360" y="342900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2" name=""/>
                        <p:cNvGrpSpPr/>
                        <p:nvPr/>
                      </p:nvGrpSpPr>
                      <p:grpSpPr>
                        <a:xfrm>
                          <a:off x="1066680" y="1981080"/>
                          <a:ext cx="4419360" cy="3200400"/>
                          <a:chOff x="1066680" y="1981080"/>
                          <a:chExt cx="4419360" cy="3200400"/>
                        </a:xfrm>
                      </p:grpSpPr>
                      <p:sp>
                        <p:nvSpPr>
                          <p:cNvPr id="393" name=""/>
                          <p:cNvSpPr/>
                          <p:nvPr/>
                        </p:nvSpPr>
                        <p:spPr>
                          <a:xfrm>
                            <a:off x="4876560" y="4572000"/>
                            <a:ext cx="609480" cy="60948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James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94" name=""/>
                          <p:cNvGrpSpPr/>
                          <p:nvPr/>
                        </p:nvGrpSpPr>
                        <p:grpSpPr>
                          <a:xfrm>
                            <a:off x="1066680" y="1981080"/>
                            <a:ext cx="4343400" cy="3200400"/>
                            <a:chOff x="1066680" y="1981080"/>
                            <a:chExt cx="4343400" cy="3200400"/>
                          </a:xfrm>
                        </p:grpSpPr>
                        <p:sp>
                          <p:nvSpPr>
                            <p:cNvPr id="395" name=""/>
                            <p:cNvSpPr/>
                            <p:nvPr/>
                          </p:nvSpPr>
                          <p:spPr>
                            <a:xfrm>
                              <a:off x="3733560" y="4267080"/>
                              <a:ext cx="152388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6" name=""/>
                            <p:cNvSpPr/>
                            <p:nvPr/>
                          </p:nvSpPr>
                          <p:spPr>
                            <a:xfrm>
                              <a:off x="3733560" y="3505320"/>
                              <a:ext cx="0" cy="76176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3124080" y="44956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ohn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1599840" y="3886200"/>
                              <a:ext cx="60984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dam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,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r.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9" name=""/>
                            <p:cNvSpPr/>
                            <p:nvPr/>
                          </p:nvSpPr>
                          <p:spPr>
                            <a:xfrm>
                              <a:off x="2209680" y="4572000"/>
                              <a:ext cx="609480" cy="60948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Sarah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Best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2819160" y="4876920"/>
                              <a:ext cx="30492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401" name=""/>
                            <p:cNvGrpSpPr/>
                            <p:nvPr/>
                          </p:nvGrpSpPr>
                          <p:grpSpPr>
                            <a:xfrm>
                              <a:off x="1066680" y="1981080"/>
                              <a:ext cx="4343400" cy="1828800"/>
                              <a:chOff x="1066680" y="1981080"/>
                              <a:chExt cx="4343400" cy="1828800"/>
                            </a:xfrm>
                          </p:grpSpPr>
                          <p:grpSp>
                            <p:nvGrpSpPr>
                              <p:cNvPr id="402" name=""/>
                              <p:cNvGrpSpPr/>
                              <p:nvPr/>
                            </p:nvGrpSpPr>
                            <p:grpSpPr>
                              <a:xfrm>
                                <a:off x="1066680" y="1981080"/>
                                <a:ext cx="4343400" cy="1828800"/>
                                <a:chOff x="1066680" y="1981080"/>
                                <a:chExt cx="4343400" cy="1828800"/>
                              </a:xfrm>
                            </p:grpSpPr>
                            <p:sp>
                              <p:nvSpPr>
                                <p:cNvPr id="403" name=""/>
                                <p:cNvSpPr/>
                                <p:nvPr/>
                              </p:nvSpPr>
                              <p:spPr>
                                <a:xfrm>
                                  <a:off x="3581280" y="3505320"/>
                                  <a:ext cx="30456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404" name=""/>
                                <p:cNvGrpSpPr/>
                                <p:nvPr/>
                              </p:nvGrpSpPr>
                              <p:grpSpPr>
                                <a:xfrm>
                                  <a:off x="1066680" y="1981080"/>
                                  <a:ext cx="4343400" cy="1828800"/>
                                  <a:chOff x="106668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405" name=""/>
                                  <p:cNvSpPr/>
                                  <p:nvPr/>
                                </p:nvSpPr>
                                <p:spPr>
                                  <a:xfrm>
                                    <a:off x="1981080" y="3200040"/>
                                    <a:ext cx="609480" cy="609840"/>
                                  </a:xfrm>
                                  <a:prstGeom prst="ellipse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ff99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Gwen G. 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ustler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6" name=""/>
                                  <p:cNvSpPr/>
                                  <p:nvPr/>
                                </p:nvSpPr>
                                <p:spPr>
                                  <a:xfrm>
                                    <a:off x="4800600" y="3200040"/>
                                    <a:ext cx="609480" cy="6098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Jason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omes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7" name="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124080"/>
                                    <a:ext cx="609480" cy="6094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Max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Fuller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8" name=""/>
                                  <p:cNvSpPr/>
                                  <p:nvPr/>
                                </p:nvSpPr>
                                <p:spPr>
                                  <a:xfrm>
                                    <a:off x="1066680" y="3200040"/>
                                    <a:ext cx="609480" cy="6098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Adam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ustler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" name=""/>
                                  <p:cNvSpPr/>
                                  <p:nvPr/>
                                </p:nvSpPr>
                                <p:spPr>
                                  <a:xfrm>
                                    <a:off x="3809880" y="3200040"/>
                                    <a:ext cx="609480" cy="609840"/>
                                  </a:xfrm>
                                  <a:prstGeom prst="ellipse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ff99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Andrea G. 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Fuller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61960" y="1981080"/>
                                    <a:ext cx="1600200" cy="1294560"/>
                                    <a:chOff x="2361960" y="1981080"/>
                                    <a:chExt cx="1600200" cy="1294560"/>
                                  </a:xfrm>
                                </p:grpSpPr>
                                <p:sp>
                                  <p:nvSpPr>
                                    <p:cNvPr id="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61960" y="1981080"/>
                                      <a:ext cx="60984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Kenneth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range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52680" y="1981080"/>
                                      <a:ext cx="609480" cy="60948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Edith M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range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41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514600" y="2742840"/>
                                      <a:ext cx="1370880" cy="532800"/>
                                      <a:chOff x="2514600" y="2742840"/>
                                      <a:chExt cx="1370880" cy="532800"/>
                                    </a:xfrm>
                                  </p:grpSpPr>
                                  <p:sp>
                                    <p:nvSpPr>
                                      <p:cNvPr id="4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040" y="2742840"/>
                                        <a:ext cx="685440" cy="53280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41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2514600" y="2742840"/>
                                        <a:ext cx="685440" cy="53280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00400" y="2209680"/>
                                      <a:ext cx="0" cy="533160"/>
                                    </a:xfrm>
                                    <a:prstGeom prst="line">
                                      <a:avLst/>
                                    </a:prstGeom>
                                    <a:ln w="255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7760" y="2209680"/>
                                      <a:ext cx="304920" cy="0"/>
                                    </a:xfrm>
                                    <a:prstGeom prst="line">
                                      <a:avLst/>
                                    </a:prstGeom>
                                    <a:ln w="255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sp>
                            <p:nvSpPr>
                              <p:cNvPr id="418" name=""/>
                              <p:cNvSpPr/>
                              <p:nvPr/>
                            </p:nvSpPr>
                            <p:spPr>
                              <a:xfrm flipH="1">
                                <a:off x="4876560" y="3276720"/>
                                <a:ext cx="380880" cy="4572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257440" y="4267080"/>
                        <a:ext cx="0" cy="2286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4876560" y="1752480"/>
                    <a:ext cx="4191120" cy="3581280"/>
                    <a:chOff x="4876560" y="1752480"/>
                    <a:chExt cx="4191120" cy="358128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5715000" y="4952880"/>
                      <a:ext cx="0" cy="3808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80769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c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67053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be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7696080" y="335268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715000" y="327636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il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8765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458200" y="335268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5867280" y="4571640"/>
                      <a:ext cx="609480" cy="60984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tr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781680" y="327636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ga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M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5562360" y="487656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381880" y="3581280"/>
                      <a:ext cx="0" cy="914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172200" y="419076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553080" y="3581280"/>
                      <a:ext cx="0" cy="6094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33960" y="419076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172200" y="4190760"/>
                      <a:ext cx="380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6553080" y="4190760"/>
                      <a:ext cx="380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6324480" y="35812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7086600" y="1752480"/>
                      <a:ext cx="1676160" cy="1523880"/>
                      <a:chOff x="7086600" y="1752480"/>
                      <a:chExt cx="1676160" cy="1523880"/>
                    </a:xfrm>
                  </p:grpSpPr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8153280" y="17524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Susan Z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nn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7162560" y="1752480"/>
                        <a:ext cx="60984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rian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nn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848360" y="205704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086600" y="2895480"/>
                        <a:ext cx="3045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7924680" y="2057040"/>
                        <a:ext cx="0" cy="83844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8762760" y="2819160"/>
                        <a:ext cx="0" cy="457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086600" y="2895480"/>
                        <a:ext cx="0" cy="304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391160" y="2895480"/>
                        <a:ext cx="13716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153280" y="35812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838080" y="1523880"/>
                  <a:ext cx="8305920" cy="3980160"/>
                  <a:chOff x="838080" y="1523880"/>
                  <a:chExt cx="8305920" cy="398016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752480" y="2971800"/>
                    <a:ext cx="99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14/196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124080" y="5181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9/27/196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172200" y="297180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381880" y="4038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4/195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8080" y="3886200"/>
                    <a:ext cx="1067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30/1927-4/8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05740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4/196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543800" y="4038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3/194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286000" y="2666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/31/1900 - 197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971800" y="38098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7/19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371600" y="449568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18/196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77320" y="30322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4/197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086600" y="2438280"/>
                    <a:ext cx="68580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1/1917-200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09680" y="373392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/193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886200" y="3809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27/193697-2/5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705720" y="525780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2/197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971800" y="181296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17/19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696080" y="1523880"/>
                    <a:ext cx="1219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2/20/194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77320" y="24382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/15/1917- 2/5/20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410080" y="44038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7/199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352680" y="2666880"/>
                    <a:ext cx="8384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6/2/1910-198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0060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3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86728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24/197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590920" y="441972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5/199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267080" y="28954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7/195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800600" y="3809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/6/1920-5/25/1959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8077320" y="525780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2/198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562720" y="396252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15/194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81680" y="387036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28/194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7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1599840" y="556272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617220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432400" y="55278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31:11Z</dcterms:created>
  <dc:creator>Greenville Schools</dc:creator>
  <dc:description/>
  <dc:language>en-US</dc:language>
  <cp:lastModifiedBy>Greenville Schools</cp:lastModifiedBy>
  <dcterms:modified xsi:type="dcterms:W3CDTF">2008-03-03T01:12:42Z</dcterms:modified>
  <cp:revision>15</cp:revision>
  <dc:subject/>
  <dc:title>Slide 1</dc:title>
</cp:coreProperties>
</file>